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691F-D6BE-488F-9BF9-A11B85E5F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0D67-EDBC-4DAC-BBE5-2779164A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5AC4-CD7B-488F-B168-5F8415E86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8D8F-74A0-40A2-995D-DD364189B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D080-866B-4708-B6E3-F154A8F19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FB1D-DA8B-4E6F-95C2-DA60E79D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CE3C-455B-4229-A8D6-A9347D85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3A87-5971-494B-A65C-A1F42C06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251C-2FA8-481E-9EB1-8D61CFDF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A8F5-C93D-4980-8DB0-3187AC81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4092-81DE-4061-8388-F8B73AFE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D7E6-E812-4F74-A388-D1F474D6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EEBB-8908-48E5-B0F6-9806A5CB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19E6-C949-47AC-B3BD-B229A089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6916-1D88-44B6-85F4-FD879396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7FD6-2434-4D2D-83D9-7A927427D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D207-82AA-45A0-B523-D2C187595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EF73-DD32-4446-B493-EF0B34F3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B491-9DA8-470F-8701-959F8378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B327-ABF3-49A7-BF14-9DAC593E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E6C3-EB48-4986-9089-D4857317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BF4B-499B-4678-A5EB-AB7DC614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55F4-4536-49FE-B555-BD48FD3D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290F-7AF5-4CC5-BC77-5DE8C294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2AF3-14C1-4B0B-AD7D-C537891BAD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AE05-650D-411F-A0A0-B2A38D4CC7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3.xml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7.xml"/><Relationship Id="rId3" Type="http://schemas.openxmlformats.org/officeDocument/2006/relationships/slide" Target="slide16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" Target="slide19.xml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1.xml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" Target="slide23.xml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1.xml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7.xml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8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5ffff"/>
                </a:solidFill>
                <a:latin typeface="Tahoma"/>
              </a:rPr>
              <a:t>Context Clues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y Tim Coo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nlucky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y again.  Click on the button to return to the sentence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4419720" y="49528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reat 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on the button to continue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4267080" y="50292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Dad likes to </a:t>
            </a:r>
            <a:r>
              <a:rPr b="0" lang="en-US" sz="3600" spc="-1" strike="noStrike" u="sng">
                <a:solidFill>
                  <a:srgbClr val="e5ffff"/>
                </a:solidFill>
                <a:uFillTx/>
                <a:latin typeface="Tahoma"/>
              </a:rPr>
              <a:t>relax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 on the sofa after he takes us swimming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A.  jum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B.  r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C.  sle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nlucky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y again.  Click on the button to return to the sentence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4419720" y="49528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reat 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on the button to continue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">
            <a:hlinkClick r:id="rId2" action="ppaction://hlinksldjump"/>
          </p:cNvPr>
          <p:cNvSpPr/>
          <p:nvPr/>
        </p:nvSpPr>
        <p:spPr>
          <a:xfrm>
            <a:off x="4267080" y="50292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Our team must be </a:t>
            </a:r>
            <a:r>
              <a:rPr b="0" lang="en-US" sz="3600" spc="-1" strike="noStrike" u="sng">
                <a:solidFill>
                  <a:srgbClr val="e5ffff"/>
                </a:solidFill>
                <a:uFillTx/>
                <a:latin typeface="Tahoma"/>
              </a:rPr>
              <a:t>united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 , if we want to win the championship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A.  working toge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B.  awak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C.  dressed 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nlucky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y again.  Click on the button to return to the sentence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4419720" y="49528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reat 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on the button to continue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4267080" y="50292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 remember that type of butterfly by its </a:t>
            </a:r>
            <a:r>
              <a:rPr b="0" lang="en-US" sz="4000" spc="-1" strike="noStrike" u="sng">
                <a:solidFill>
                  <a:srgbClr val="e5ffff"/>
                </a:solidFill>
                <a:uFillTx/>
                <a:latin typeface="Tahoma"/>
              </a:rPr>
              <a:t>distinct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markings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A.  yell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B.  spec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C.  dir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nlucky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y again.  Click on the button to return to the sentence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4419720" y="49528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re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the context clues to make the best choice for each word’s mean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1.spi.9 L2  Determine word mean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rough the use of contex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u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reat 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on the button to continue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4267080" y="50292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he balloon </a:t>
            </a:r>
            <a:r>
              <a:rPr b="0" lang="en-US" sz="3600" spc="-1" strike="noStrike" u="sng">
                <a:solidFill>
                  <a:srgbClr val="e5ffff"/>
                </a:solidFill>
                <a:uFillTx/>
                <a:latin typeface="Tahoma"/>
              </a:rPr>
              <a:t>burst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 as it brushed against the brick wall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A.  flew hig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B.  got aw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C.  popp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nlucky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y again.  Click on the button to return to the sentence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">
            <a:hlinkClick r:id="rId2" action="ppaction://hlinksldjump"/>
          </p:cNvPr>
          <p:cNvSpPr/>
          <p:nvPr/>
        </p:nvSpPr>
        <p:spPr>
          <a:xfrm>
            <a:off x="4419720" y="49528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reat 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on the button to continue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4267080" y="50292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Some Native Americans made their </a:t>
            </a:r>
            <a:r>
              <a:rPr b="0" lang="en-US" sz="3600" spc="-1" strike="noStrike" u="sng">
                <a:solidFill>
                  <a:srgbClr val="e5ffff"/>
                </a:solidFill>
                <a:uFillTx/>
                <a:latin typeface="Tahoma"/>
              </a:rPr>
              <a:t>dwellings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 in the rocks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A.  sho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B.  blanke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  ho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nlucky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y again.  Click on the button to return to the sentence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4419720" y="49528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reat 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on the button to continue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>
            <a:off x="4267080" y="50292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he tarantula spider has tiny </a:t>
            </a:r>
            <a:r>
              <a:rPr b="0" lang="en-US" sz="3600" spc="-1" strike="noStrike" u="sng">
                <a:solidFill>
                  <a:srgbClr val="e5ffff"/>
                </a:solidFill>
                <a:uFillTx/>
                <a:latin typeface="Tahoma"/>
              </a:rPr>
              <a:t>bristles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 on its legs that can prick its enemy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A.  spo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  sharp hai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  tee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nlucky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y again.  Click on the button to return to the sentence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419720" y="49528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reat 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on the button to continue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4267080" y="50292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Most small children are </a:t>
            </a:r>
            <a:r>
              <a:rPr b="0" lang="en-US" sz="3600" spc="-1" strike="noStrike" u="sng">
                <a:solidFill>
                  <a:srgbClr val="e5ffff"/>
                </a:solidFill>
                <a:uFillTx/>
                <a:latin typeface="Tahoma"/>
              </a:rPr>
              <a:t>forbidden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 to cross the street without an adult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A.  help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B.  told not 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C.  forc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he </a:t>
            </a:r>
            <a:r>
              <a:rPr b="0" lang="en-US" sz="3600" spc="-1" strike="noStrike" u="sng">
                <a:solidFill>
                  <a:srgbClr val="e5ffff"/>
                </a:solidFill>
                <a:uFillTx/>
                <a:latin typeface="Tahoma"/>
              </a:rPr>
              <a:t>boulder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 rolled down the hill and blocked the road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  a large ro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  a per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  a small ro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nlucky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y again.  Click on the button to return to the sentence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4419720" y="49528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reat 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on the button to continue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267080" y="50292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he artist created a </a:t>
            </a:r>
            <a:r>
              <a:rPr b="0" lang="en-US" sz="3600" spc="-1" strike="noStrike" u="sng">
                <a:solidFill>
                  <a:srgbClr val="e5ffff"/>
                </a:solidFill>
                <a:uFillTx/>
                <a:latin typeface="Tahoma"/>
              </a:rPr>
              <a:t>sculpture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 out of clay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  a costu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  a post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  a stat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nlucky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y again.  Click on the button to return to the sentence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4419720" y="49528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reat 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End 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">
            <a:hlinkClick r:id="rId2" action="ppaction://hlinksldjump"/>
          </p:cNvPr>
          <p:cNvSpPr/>
          <p:nvPr/>
        </p:nvSpPr>
        <p:spPr>
          <a:xfrm flipH="1">
            <a:off x="4190400" y="5029200"/>
            <a:ext cx="75960" cy="76320"/>
          </a:xfrm>
          <a:custGeom>
            <a:avLst/>
            <a:gdLst>
              <a:gd name="textAreaLeft" fmla="*/ 4680 w 75960"/>
              <a:gd name="textAreaRight" fmla="*/ 71280 w 75960"/>
              <a:gd name="textAreaTop" fmla="*/ 4680 h 76320"/>
              <a:gd name="textAreaBottom" fmla="*/ 71640 h 76320"/>
            </a:gdLst>
            <a:ahLst/>
            <a:rect l="textAreaLeft" t="textAreaTop" r="textAreaRight" b="textAreaBottom"/>
            <a:pathLst>
              <a:path w="21600" h="21702">
                <a:moveTo>
                  <a:pt x="0" y="0"/>
                </a:moveTo>
                <a:lnTo>
                  <a:pt x="21600" y="0"/>
                </a:lnTo>
                <a:lnTo>
                  <a:pt x="21600" y="21702"/>
                </a:lnTo>
                <a:lnTo>
                  <a:pt x="0" y="21702"/>
                </a:lnTo>
                <a:close/>
              </a:path>
              <a:path fill="lightenLess" w="21600" h="217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2">
                <a:moveTo>
                  <a:pt x="21600" y="0"/>
                </a:moveTo>
                <a:lnTo>
                  <a:pt x="21600" y="21702"/>
                </a:lnTo>
                <a:lnTo>
                  <a:pt x="20200" y="20302"/>
                </a:lnTo>
                <a:lnTo>
                  <a:pt x="20200" y="1400"/>
                </a:lnTo>
                <a:close/>
              </a:path>
              <a:path fill="darkenLess" w="21600" h="21702">
                <a:moveTo>
                  <a:pt x="21600" y="21702"/>
                </a:moveTo>
                <a:lnTo>
                  <a:pt x="0" y="21702"/>
                </a:lnTo>
                <a:lnTo>
                  <a:pt x="1400" y="20302"/>
                </a:lnTo>
                <a:lnTo>
                  <a:pt x="20200" y="20302"/>
                </a:lnTo>
                <a:close/>
              </a:path>
              <a:path fill="lighten" w="21600" h="21702">
                <a:moveTo>
                  <a:pt x="0" y="217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2"/>
                </a:lnTo>
                <a:close/>
              </a:path>
              <a:path fill="darken" w="21600" h="21702">
                <a:moveTo>
                  <a:pt x="3794" y="3844"/>
                </a:moveTo>
                <a:lnTo>
                  <a:pt x="17806" y="10851"/>
                </a:lnTo>
                <a:lnTo>
                  <a:pt x="3794" y="17857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nlucky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y again.  Click on the button to return to the sentence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>
            <a:hlinkClick r:id="rId2" action="ppaction://hlinksldjump"/>
          </p:cNvPr>
          <p:cNvSpPr/>
          <p:nvPr/>
        </p:nvSpPr>
        <p:spPr>
          <a:xfrm>
            <a:off x="4419720" y="49528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reat 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on the button to continue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4267080" y="50292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racy buttoned her </a:t>
            </a:r>
            <a:r>
              <a:rPr b="0" lang="en-US" sz="3600" spc="-1" strike="noStrike" u="sng">
                <a:solidFill>
                  <a:srgbClr val="e5ffff"/>
                </a:solidFill>
                <a:uFillTx/>
                <a:latin typeface="Tahoma"/>
              </a:rPr>
              <a:t>cardigan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 to keep warm at the game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A.  swe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B.  pajam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C.  boo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nlucky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y again.  Click on the button to return to the sentence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4419720" y="49528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reat 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on the button to continue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4267080" y="50292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he autumn morning </a:t>
            </a:r>
            <a:r>
              <a:rPr b="0" lang="en-US" sz="3600" spc="-1" strike="noStrike" u="sng">
                <a:solidFill>
                  <a:srgbClr val="e5ffff"/>
                </a:solidFill>
                <a:uFillTx/>
                <a:latin typeface="Tahoma"/>
              </a:rPr>
              <a:t>dew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 left the playground damp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A.  clumps of sn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B.  pieces of 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C.  drops of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2T02:15:25Z</dcterms:created>
  <dc:creator> </dc:creator>
  <dc:description/>
  <dc:language>en-US</dc:language>
  <cp:lastModifiedBy> </cp:lastModifiedBy>
  <dcterms:modified xsi:type="dcterms:W3CDTF">2006-07-14T15:46:48Z</dcterms:modified>
  <cp:revision>14</cp:revision>
  <dc:subject/>
  <dc:title>Context Clues</dc:title>
</cp:coreProperties>
</file>